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EFE-CB48-4E23-B606-A1DBC406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AB1-F78D-42ED-ADF5-A984B134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333-F601-419B-9652-2F458C71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C49-DA63-409C-9D97-632198FF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968-9832-4ECF-B564-1719AC68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834-3A77-4B6F-B1E6-F9683AF8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1A7-C514-4618-8273-35F3D161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A68-DA85-4DB9-8ABC-F35A1B9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1D9-BF5F-42AE-810C-32EFE99D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51E-F2B2-4509-8FF3-CD5B2D73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F68-AC67-450A-9569-DC5A124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151-3FDB-442A-A792-8AB7923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28600" y="304920"/>
            <a:ext cx="4067280" cy="6105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343400" y="304920"/>
            <a:ext cx="4067280" cy="61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F78C-8BBD-4EEA-8553-0ED08ECD9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V-9A 9057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ionics/Electr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the Pa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the Panel Designer program on line:  www.epanelbuilder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’s has a full size Autocad file of the panel blan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vansaircraft.com/public/download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read by many CAD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you design on the computer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for interfering parts on the aircraft structure and mark keep-out areas on the bla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 dolls work… you can find a lot of problems pretty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take dozens of attempts to settle on what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Pa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920" y="2666880"/>
          <a:ext cx="8458200" cy="26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458200" cy="26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the Electric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s, heated pitot, strobe system, alternator/batte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ors: wing-root disconnect, panel dis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the Aeroelectric Connection on-line!   www.aeroelectri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C 43.13 as a reference for wire gauge, breaker/fuse selection and grounding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schematic design program:  www.expresspcb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someone else’s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e main electrical system parts… wire, terminals, lights, strobes, tie-wraps (about 2000 will 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steinair.com, www.aeroelectric.com, www.digi-key.ca, www.creativair.com, www.wicksaircraft.com, www.aircraftspruce.co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s &amp; Term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il-spec Tefzel insulated w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use automotive (PVC) wir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urn and emit poisonous f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p termin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-ons, ring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-ons not common in certified aircraft, but ar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ping is reliable and gas-t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ses or Brea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es are che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e easier to w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ndicate when trip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fuses may be used, but they are not cer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ggle or Rock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ggle are easier to mount, are very tactile and positively indicate their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kers can be backlit or labeled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ckpit/Panel L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vionics have built-in backl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add light rings, post lights or flood l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p light is a great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’s sells a nice little dimmer module for $20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Groo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really want to impress the ju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-wr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use, easy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need about 2000 (1800 end up in the garb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hion cl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to secure wiring bundles and prevent chaf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tub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polyethylene tubing lengthwise and glue onto sharp edges to prevent chaf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not clamp tightly, it will affect the performance of the 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 marking (if you don’t own a $3000 marking mach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y fabric label strips from www.steinai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 marking is a pain, but well worth it later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running antenna coax in long wiring bund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run transponder cable parallel to any other wire or co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some slack in the ELT antenna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with cushion clamps around interfering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only perfect until you fly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you’ll want to chang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build another airpla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orge McNu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grounding bus for all power conn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circuit has a separate ground re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electrical inter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the airframe as a power grou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cceptable to use the wing spars as a ground return for wing wi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ran a ground wire from the spars to the firew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elded wire grounds can be grounded to the airframe/panel at one end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se the shield to carry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stri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u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p tools (d-sub, fast-on, coax, bo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p pin remova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tal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ering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M/B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-wrap 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-shrink tubing and heat 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shrink tu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lectric g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o connectors, terminals (long las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F-50, Corrosion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o connectors, terminals (24 mont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um wa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 washers (split ring and s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ree of Difficu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ing and wiring an airframe and panel is difficult, but achiev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references, and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completed design and have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ign review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xperienced builder or avtech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same person to consult with you through the tough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save a lot of money, time and frus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e the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V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ht V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R 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ht 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list is available in the CARS on Transport Canada web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tc.gc.ca/CivilAviation/RegServ/affairs/cars/menu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upgrades (VFR-OTT to IF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cided on Night/VFR 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Equi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595520"/>
          <a:ext cx="8458200" cy="46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95520"/>
                    <a:ext cx="84582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-Electric or Electric/Vacuu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new certified aircraft are going all electric, even for full IF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-electric is lighter, cheaper and more 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s prone to a single-point failure…. Alternator/Bat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stand-by alternator or backup battery strate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you could use a vacuum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lure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ain’t installed, it has zero weight, requires no maintenance, is free and will never br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ailure mechanis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electric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instrument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redundancy or back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IS is backed up with ASI, TC, Compass, Stall indicator and GPS virtual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backup batteries for EFIS and GPS and Engine Monitor.  Handheld Co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$$God-Bo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 cockpit displays are great, bu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expensive and b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two of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ou need a backup electrica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wer functions in a box, the easier it is to provide a back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separate fuel level gauges backs up fuel totalizer in engine moni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Equi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get is always a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city of installation is very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min AT SL-40 COMM has a dual-watch function, allowing you to listen to two frequencies at once and transmit on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s the weight, panel space and extra antenna of two separate com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be not cheaper because the SL-30 is about twice the price of two cheap com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buying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avionics are much more reliable than older, refurbished stu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er, lower power, less panel space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4:36:10Z</dcterms:created>
  <dc:creator>Vernon Little</dc:creator>
  <dc:description/>
  <dc:language>en-US</dc:language>
  <cp:lastModifiedBy>Vernon Little</cp:lastModifiedBy>
  <cp:lastPrinted>2004-10-07T00:12:05Z</cp:lastPrinted>
  <dcterms:modified xsi:type="dcterms:W3CDTF">2004-10-07T05:49:40Z</dcterms:modified>
  <cp:revision>15</cp:revision>
  <dc:subject/>
  <dc:title>Define the Mis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3.telus.net/aviation/flying/RV-9A/rv-9a.html</vt:lpwstr>
  </property>
  <property fmtid="{D5CDD505-2E9C-101B-9397-08002B2CF9AE}" pid="9" name="LinkColor">
    <vt:r8>16711782</vt:r8>
  </property>
  <property fmtid="{D5CDD505-2E9C-101B-9397-08002B2CF9AE}" pid="10" name="MailAddress">
    <vt:lpwstr>see home pag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Website\flying\RV-9A\photos\Electrical\design_fil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